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17F-6CF7-4E8F-81FB-87BD6D41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546-6691-41A0-9794-17C32CC7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FA6-E310-4764-903A-6F33E3E9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CAE-E6A4-4F86-94CE-088A52DF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A6E3-16F9-40CF-B5AF-032A525B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822F-053D-4370-989C-F2BA09D3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E67E-54DE-4422-ABEE-ABA1A644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1D5A-70D5-40BC-AC53-F2026055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E655-809D-43DA-96CD-CE62C662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073A-E932-4B51-84B0-209A2BF2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2F6F-C7BD-4140-A60F-8C022B0E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7E4-A415-49C1-86F4-5CE20415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C076-19F6-4109-B36A-C7549F27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2D14-8CC7-4C48-86D8-71895C7F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23E9-1D1C-4E3D-8B33-D5F4852E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B99B-A1AD-4CD2-9178-6144AF7A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39F3-9590-4C96-8507-06AE1294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E8F-72CE-48F6-BF65-9C3D3C4D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F58-ECAF-485D-A020-C16AAAB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F2F-9296-4FBB-B7F7-3E6143B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E56-2F69-4A5C-B436-7F12BBA6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8EC-0BEA-4ADA-9BF3-C02EB274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BA2-685D-4687-8B98-E7E0E94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BF5-073D-4B99-A1FD-AFEFF42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711A-4F40-4266-9A69-F22F0206984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BA69-4CE5-4C5F-BADF-31881F25D9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sdfalcons.org/libraries/highschool/index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nding Your Way Around the 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17360" y="1937880"/>
            <a:ext cx="5309280" cy="5309280"/>
            <a:chOff x="1917360" y="1937880"/>
            <a:chExt cx="5309280" cy="5309280"/>
          </a:xfrm>
        </p:grpSpPr>
        <p:sp>
          <p:nvSpPr>
            <p:cNvPr id="157" name="_s5142"/>
            <p:cNvSpPr/>
            <p:nvPr/>
          </p:nvSpPr>
          <p:spPr>
            <a:xfrm>
              <a:off x="2629080" y="2649600"/>
              <a:ext cx="3886200" cy="3886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5143"/>
            <p:cNvSpPr/>
            <p:nvPr/>
          </p:nvSpPr>
          <p:spPr>
            <a:xfrm rot="7200000">
              <a:off x="2628360" y="2649600"/>
              <a:ext cx="3886200" cy="3886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5145"/>
            <p:cNvSpPr/>
            <p:nvPr/>
          </p:nvSpPr>
          <p:spPr>
            <a:xfrm rot="14400000">
              <a:off x="2629080" y="2648880"/>
              <a:ext cx="3886200" cy="3886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5140"/>
            <p:cNvSpPr/>
            <p:nvPr/>
          </p:nvSpPr>
          <p:spPr>
            <a:xfrm>
              <a:off x="5381640" y="319104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Online sour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5141"/>
            <p:cNvSpPr/>
            <p:nvPr/>
          </p:nvSpPr>
          <p:spPr>
            <a:xfrm>
              <a:off x="3979800" y="561852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Book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5144"/>
            <p:cNvSpPr/>
            <p:nvPr/>
          </p:nvSpPr>
          <p:spPr>
            <a:xfrm>
              <a:off x="2577960" y="319104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Periodic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library collection contains these print and online sources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,000 boo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 magazine subscrip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newspap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library web page which includes several subscription datab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ner-library loan…ACCESS P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cedures for reporting from  study hal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ort directly to the library instead of going to study hal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gn your first and last name on the sheet for your study hal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seated until count is tak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on tim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check out 2 books f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 wee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es –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 cents a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ines cannot be taken from the libra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pies &amp; print-outs are free for school projects; personal copies and print-outs ar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 cen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 p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ility layo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ion of boo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oks on the mezzanine are non-fic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ction, biography, story collection, career and reference books are downstai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need any supplies, just as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ology avail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r prin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ann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D burn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entation equipment- Laptop with L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er and exit at the front on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duc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an educational purpose for being in the libra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 quietly so that others can wo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s are for reading and research. No games or inappropriate sites allow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du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sleep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eating or drink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cell ph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SNUFF OR SEE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appropriate behavior will result in loss of library privilege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hour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library is open at 7:00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n Monday and Thursday the library is open until 4:00 PM and is the host for science and math tutoring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library is closed during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lunch period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The Library Web Page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9144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812960" y="1784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6120" y="1631880"/>
            <a:ext cx="7160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e the Card Catalog link to search for books in our coll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cess PA – Use this to search for books in other PA libra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wer Library – Portal to many subscription databases such a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bscohost -Use this to find magazine artic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tLibrary – Use this to find e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P Multimedia Archive – Good for locating photograp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graphy Reference Bank – Information about peopl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olier Online – Use this for encyclopedia inform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ience Online – Use this for the latest science inform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IN – Career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ited Streaming – video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7:31:10Z</dcterms:created>
  <dc:creator>Information Services</dc:creator>
  <dc:description/>
  <dc:language>en-US</dc:language>
  <cp:lastModifiedBy>Albright_J</cp:lastModifiedBy>
  <dcterms:modified xsi:type="dcterms:W3CDTF">2006-09-06T15:18:51Z</dcterms:modified>
  <cp:revision>46</cp:revision>
  <dc:subject/>
  <dc:title>Slide 1</dc:title>
</cp:coreProperties>
</file>